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.png" ContentType="image/png"/>
  <Override PartName="/ppt/media/image26.tif" ContentType="image/tiff"/>
  <Override PartName="/ppt/media/image25.tif" ContentType="image/tiff"/>
  <Override PartName="/ppt/media/image17.png" ContentType="image/png"/>
  <Override PartName="/ppt/media/image24.tif" ContentType="image/tiff"/>
  <Override PartName="/ppt/media/image16.png" ContentType="image/png"/>
  <Override PartName="/ppt/media/image23.tif" ContentType="image/tiff"/>
  <Override PartName="/ppt/media/image1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20.png" ContentType="image/png"/>
  <Override PartName="/ppt/media/image14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D7373-1723-4095-A20F-39A494FF0A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4C920-5E93-4F6F-954F-81E483DB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16F204-974D-4372-8B08-EB0B1A0F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8E160D-3D2C-462A-A14B-D54DD672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656B36-CD20-47DF-9750-2421C1BF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F9FBD3-0ECE-406E-9B00-201A7239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A37C8A-5441-4378-A887-CB72EF55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A4F996-77A3-4BA1-A98F-1F781AE8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4F6BFA-E4DB-41D2-A106-0463D485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57DDE4-BC7C-4636-9409-741A574D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8D6292-ADCA-4E61-AEB1-BBB26FF734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7F483-8DF7-4AA5-9D17-896559C78A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76414-2444-4923-A5D4-6A3C39D2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CC3BE-DD9E-4CEE-9A8A-042A013D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0A51C-680C-4EF9-8F0C-C42B78FF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EE450-731B-4899-984D-43BF4F51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76319-0139-4754-A3C5-6CD22C4FF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273E4-A1C6-45E0-AC85-265E566F1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4E322-2618-4940-9FFB-C46A5E43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31839-46D6-4E3A-8DE5-DA3FC5A0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B3C9D-87B6-4060-9338-DC4A5A2F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24117-9C1D-46CF-8783-03169F14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F0EF0-DB4C-48E5-A160-B9C297BC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440F1-880F-4943-ABEA-D5F7BB0CE7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EE7C9-38C7-4AFC-98FA-6C20FFEEB7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59BFAA-7A1A-4634-8F86-3B18A6F273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D6F2BD-F2B9-464A-AF56-9B5EF634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85D0FE-DA0F-46F7-B14F-E06AEDD3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226733-AD8A-4069-B512-9C0BDAB4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98C8BB-EF8D-48DB-8C87-5F42BD18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75FBD0-ED68-4BC3-8DC8-F0864F25C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CE14EE-6010-4099-A0A5-E63AAECC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0556AD-00DA-4555-80B1-339A55B1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9D44E2-5D1C-4B58-B48A-B84CDC42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BB3C4-0BC4-422A-8BB1-7A687DBA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D8AD2D-31B4-4C6F-A06D-448084EA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F1B4A8-7FEC-4ECE-B117-DE1CADEB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1D801D-9019-4868-8274-139727AB25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926836-C1F2-405F-88FF-6ACFF13795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9E00FA-67CC-4022-893F-2A91E7F0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FD2A2F-B36D-47EC-9034-62A16104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DB584E-A9D1-45FE-8639-934715A6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9B3DFE-E1D9-467D-BB9B-00D11E9E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426197-A6D8-41D7-AFA9-3963C720D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7A9C54-1CF3-4798-9617-6181E059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B0543-CCD9-43C4-8FDE-ADADE5A8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FAFA2C-796C-4B08-85A7-8E967DC4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5F075E-CE75-4B06-8C0D-EB3CA7F5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1D8612-74B3-4465-B274-8B326C48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7F45D0-987F-430F-8886-6E4B1B73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0093FE-3A81-48CD-BFB8-2D521B0D06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E9885-D9B3-4BE3-8470-76410E9131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4230D-8FF1-4991-999C-94144434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47C2A-1B93-4560-AED8-0AC3B938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1E506-B03B-4C3A-A02E-FA3F69FA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9A57E-9A6C-46AC-A98E-52281C08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25C68-51AE-49AF-AF27-DE6A42D5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0556B-2929-4389-A0B6-C77A471EA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02820-1B29-4875-B733-CC8B69B4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33441-9D49-430D-9B01-2B133406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AEFAD-C230-4C70-A2C8-D51F91EA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713CC-4BD5-438D-98DA-72CD67EB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594EC-63CD-4F8B-A5EE-532D653E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AAA58-3071-47C9-9F85-9EE6A3CA55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CC58F-56B5-43A0-8C19-FE8D6F6B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46B94-1541-4CE2-9423-47C288D6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C0C887-8847-4679-AA48-A9F210A2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AC89C-0156-4F64-BEF4-FF28414D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B7429-DF16-4910-BDFD-BFDAD7AC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15A09-4B63-4435-9670-BD8DD048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18C11-14FB-4883-9C55-78F5E325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DFC64-C537-4F99-9704-62565501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19510-D3A1-4EBF-95DC-B2A5BB9A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AE740-786D-4F02-BA30-979B8593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CA71A-8203-465B-944C-E78713FB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72DE1-EF17-452A-8ED0-9AC277E2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AD741-88D4-4069-A201-CDF440EE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D4813-567C-4AD3-B9BB-FE59EC12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4B607-5159-4FBE-9EED-3D50F340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DA46A-36EA-41B6-89EA-E8D7A5B6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0DF52-CB54-4549-B548-7FFC7B61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BB7B6-37D5-4741-A725-04638E7F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F84FF-6421-4B22-AA4C-3ED23E7E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71121-74D1-4620-BCB0-B0E44F1D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FBA26-8B6D-423A-B0A9-1C4ACECC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8808C-A0B5-4B05-99F2-58B83F06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2FFFE-CAA8-4BD5-A69E-2F115031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89EA5-E992-4CB4-B87B-BCA832E2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D0E57-4D1B-4BDB-86C8-60130D5E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BD163-CD6D-49F3-BE71-A1CF0F54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7931B-29C3-4C1C-AB69-968E140D3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20145-F8C1-467A-9029-D52ED1EF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6B0D06-E59B-4784-ADD6-5DB36602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ECD64-0B22-4399-A334-55ED8A07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B2FB5-1CDC-4811-90EB-8404C42D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FBAA04-0785-4E66-BD9E-8A85B3EF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15E824-5957-4578-B278-CB15DF7C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EBBD6-FD3D-4376-B0E9-B1C72278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E52C67-54D7-4223-83B9-A0A89045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E7A8D-57B7-4BE8-A6B2-2AFF53F1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D8238-E10C-4A1E-A811-F720069C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8ABDBE-0449-4101-8B4D-BB4E8AE2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CE8948-CA6D-4382-82DC-F15A0094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2B7AD4-AB46-4A18-B2A1-C346AA0A6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0F7309-F20B-4F13-BAFE-7E43A8A1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E9E2F1-35A6-49F4-84F1-C0926291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9CBA5B-0C25-42E1-9DDE-AFD4B3D1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3F5A90-C77F-4E42-9D4D-359E450A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C34A77-9452-4C47-B505-135F3CF1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3ECFAD-602F-40E1-BB77-E3140595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944279-F44F-4558-9EE2-5363904E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596E1-3217-4E8D-B5E5-DF6EC635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4DECC-D015-4E1F-9EDE-25D0E41C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46C267-B93A-4319-9132-53630245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DADA35-990F-433C-BDDB-903D57C2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7C76A8-A20A-4E99-8F43-3B5EEE7C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EEFF65-73BE-4DF4-8B28-5B23C98A8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9F9C96-FC8A-458B-A9D4-205CFC5A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26AF9A-F3DE-4319-9D6A-C9E71D5F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8A19AD-0055-4A43-BA2C-841BE516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24EB12-1C26-44BA-9901-466003EB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2FAE28-A432-4DA7-AFA8-884B8094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83CCBF-95E0-40C7-A773-A9553F78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3A4D4-A79E-41B4-9653-3E785FF7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CB14DF-E64A-4883-AE2C-7184713F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234604-5D88-438B-8E2B-7FB639E7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721966-7E17-41FC-8740-8AEC151D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164618-1155-4838-8A76-5E3D512F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F3049B-B921-4DC5-A0BF-2F47A891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23C931-3D90-4233-B22E-E0E48C56C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26DED3-3654-4BD2-BB44-A398DE09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E1D8B4-3B42-4DAC-82D1-6F03A8AA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D641A6-4FB0-4ADD-9FF3-E3D4A08B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6D173F-CEF6-4633-8AE5-155B93E8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B833B-BD84-47B7-A409-72013739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781988-0B3A-4A5E-8EB9-9D70953A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633AC5-A1E3-470A-9CF0-9CA4F796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020D1B-797E-4C68-9C59-F5A6E4B9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00AB64-AD25-4183-BF0B-02A04A3B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9181CA-844E-49D0-A470-F4BCD9AE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C57D9E-5295-4D7A-A2AC-A65C7439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2F4874-D864-4B12-8728-E30CC303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A3D1DC-AF30-4F5B-9EBC-213642532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05F0CF-34B5-4884-B4A0-588705842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91E68F-80B2-4C71-A174-2F6D39D1E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01BC2-C752-40A0-A5B3-0089466C4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468002-E775-4F5D-BCA4-F9B6EB9A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677410-ED33-475B-BE33-D63F2EF3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FAEAC0-E4A8-4BF7-9512-32D8EC4B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D28145-D2A7-4883-AED0-E262DF1B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BA0175-58FF-4783-8A83-A038B4B2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FECFE7-66B3-4ABB-A26B-D92266D9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96FDA8-E84E-455F-AFAF-F4775653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4AB3AF-DDBF-4DCC-A6B0-1702A683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86D9E8-BA88-4380-81A4-3A51F7E2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172847-C7E5-4F54-842D-05BEBCB14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CB0BD-035C-4CFC-B2A4-CFC256E3C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C58C23-A7AC-415E-A5C2-6DC29DDEE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4285DA-4057-4114-9BD0-825CC292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E18D83-8E95-4548-8E1B-48F199FC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F75D8E-F8A1-4EBA-8DDB-5A0EBD15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9154A3-EB5B-45E2-8D01-0C1A71A4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EF9A6A-8DDC-44FB-91A4-E0F6FC8A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48A71F-F742-4E00-9C33-998E965F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E03C49-6C33-4C58-AE36-253EC54A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115CDE-7B62-412C-9764-74702956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EFFF8B-1553-4006-924E-FB1A3404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C504E5-4E51-4D14-8CEE-3BD3E0B4E9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B961CA-EDF0-4CFA-8FB5-121D6564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1CA3AB-E08F-483D-8FA9-001DC482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B235E3-C96F-40D0-BC58-7AF36C756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1865F4-443F-4C8E-8D41-EF2964A3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F1EC9C-6595-40D8-84D6-C59EEE24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B5A88B-AB26-4F01-9D3E-9CF30923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8B4414-A39C-4ED4-9E0B-38A01056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CC45F9-F8D7-4CCD-9399-C64DBD26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06A163-4EE6-48EE-8DED-83C11536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342DB3-BD9D-4BEB-934E-E6EF532D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9BEA39-E42C-4495-8E07-FF03E5D1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6CAFB2-EB6E-41C3-ACDC-751E978E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C5BAC4-03CD-4513-B205-78490A56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690254-9DD8-4DA0-ACAD-D6A4588E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C3D120-214E-407A-AED1-E3D9BFE19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18C33F-63D8-457F-AB6C-F78D3EA2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122747-0273-44F3-BCA9-39856419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79FBB7-ADF9-437A-BC5A-DACD3B89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FAA6DC-4993-4BE0-9825-BA6A6703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73634D-B2C4-4C2A-8D7C-ADF19B78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0CEB55-8FFB-41AF-B7CA-C6F613AF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801B08-AAF2-4BF8-A503-20690689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16D49F-79BF-449C-A868-5772B604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215CA2-32E6-4DC2-924F-0AD1E656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0FFA8B-73EA-475D-9042-F33FFA72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205863-4B48-4866-A0BD-26ABA07B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A817BE-6E38-4594-B197-6B251E29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1BBB6B-0F70-4E79-800D-9615CE050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4D07D4-F459-4277-BCFD-240D24B3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54858F-0D8E-4898-AE68-5118051E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302589-057F-4314-A8C1-D4B35FC4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065576-E7B9-49F1-90B3-A33F08EE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2D9E29-4BF9-48AD-AAFA-6C378967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5949AF-FC62-4905-8B8D-6D2CA368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4FA35F-1056-406E-B5CF-25B0DDEF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841F18-5B5B-41AA-907A-4E2B4D19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A2CD24-FBF9-4F8F-8C03-5D10F861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687852-A64E-4BCF-B24F-A738D538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582189-69D1-40C1-B036-74EFBE84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3039D5-18CB-433B-85B4-726E780E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49F6C4-611B-427B-9F44-DDBB57CD2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0C9FD3-DBB1-42AB-B076-42A75A09C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C19354-9EEE-4AAA-A898-29EF76317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912E4-B534-4E24-B5A1-C8D1B6F6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8D4329-65C9-49A3-94A1-AAA90C4F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1FEBC2-2C34-4B0E-98C7-BDE770C2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62A4B7-65AA-480B-8E07-A5704B82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1DA3E3-F4BE-4810-A0A1-6C8ACD6A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C1EA52-78A6-4DB9-A422-DF57ECEA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99E444-6C74-4CC7-B937-9ACD6AF6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65FAE9-B4A9-444D-9982-7C8407C4C6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2C37E-44D3-4176-9B6E-51C8CF4D0B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F06B8-B841-4D43-8E30-407BADAC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37919-A7F3-4649-8617-5D17B951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61088-C524-401D-B8DF-4764FC5D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4CC5B-3B16-43C8-8CBC-48338E39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AACB2-F54D-44F7-97F7-16B84710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C5A54-1F70-4BB1-9661-ED7CD8706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10EF8-CC76-46F5-8233-4B2AFE96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1818C-0486-4716-800B-1EF6F3D7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82ED6-2F5A-4EDF-BCDF-30EB841F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11AF4-D736-4725-8437-9839BE97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9993B-E065-4530-95B8-44C4DB5E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BE032-D1EC-49B1-938C-4B716C5495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89FB11-12F3-42B2-9C58-B551C3A614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4FA69-BB3C-4C83-9C7B-61CB4AF21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DFB759-2690-487D-9EE9-65A7EEC6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6DCA97-0DA4-4C8F-B24B-433E1BF1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965EEC-ADEC-45E8-9D5F-3D85851E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9C58E8-BA9F-44AB-9204-D36BD9CB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1C1D5A-0663-4117-BDF1-C28EA870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457977-9CE4-416F-BCC5-F1B83311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BCEEC3-32A0-4C40-BDA2-EF5508B9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F95996-7764-4008-89E7-0BE5AFA4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9D4D0F-613C-44B6-8A79-7B679738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145F64-C443-4164-B230-2822BC21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4BA74-391F-41FC-AA10-6B966C9E3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AAAA76-9254-460F-9D35-5416742C35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698292-579B-487D-AFDE-27D47DAF0A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B4ACEF-54B3-45E4-B659-0F41F48D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4CD0C1-B10C-4E8D-99C3-675EA9FD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F5F88E-6E0F-4CCA-9E45-F3C3C345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0EDFCE-5925-4ECB-A568-4C400462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325801-3326-449B-8FA0-93525F98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30AAF3-85B1-4897-94DC-BB4D6596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C3FFD6-635C-4F76-80A3-CDBAAB8E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478636-AF37-42A7-AAF5-DD5C0192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1B947-936C-40DB-8D20-F78162B7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59B5E3-0425-4CF3-9A52-CE7F6CF9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2F5DDC-BBFC-454C-B14C-BA7F32A6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5CB45F-D436-4D26-AEAA-EA9896061E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1232C-05D8-4A6E-95A1-CC519DDB83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D6222-E62C-495C-A341-397AC585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FE802-87E4-4164-886A-081B8289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C16D2-20B4-4AEA-A24E-511E9E6A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117E7-D807-4109-9CB6-2E94D219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65E2D-C701-4E0B-BB2E-990872F7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8D193-3B30-4DB7-B6C1-EACB2AD0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A5F7E-1858-4447-A86C-0640DF23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E7F7B-706A-433D-95E2-94A4BB77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CC9D8-B6BD-4475-A12C-CF6B6B09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6F6FB-3524-47B5-90A0-357EA8C3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6846E-0129-441F-860E-A7B7A445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EC6C3-4C12-4869-9594-BE2ADF8370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56D6BB-3EAA-46A9-8B63-8934BAB4D4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7F522F-636F-4708-935C-D5685537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D448B5-65AE-4FE3-B6DA-BE67DA72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38A797-1518-4F68-BB40-25E33D85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4AE2C7-4BF8-46B2-A7E7-0783510D4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7BDD7-626D-48B4-9D37-1A549807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45E027-029A-4BF5-A0DB-FDA4E044D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DC34F7-DE36-42A2-B9A7-DFF21838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94A646-7B06-4CD2-817E-6158EDA4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E6BE2C-07E0-465B-96C6-B1D4EABA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750717-B1C1-4954-8E13-8E30AB56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CB6214-189D-4C42-9FCC-6899E867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FE4E39-4B5E-49AA-A687-7EAE79E24D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BEE005-C6B8-4844-9606-7123F949CC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504CD7-E0C3-44EF-ABEC-BCF83CA0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2DCF57-8081-4C8C-B92D-88567E69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01C7-CE08-44C1-ABE1-C2E9243D3EE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E232-1604-4EDF-B1C1-29631EF116E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C491-3B3B-404E-8717-BFFA1655FDF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7394-9380-4EC2-B528-77E6D3C0C50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01D8-C762-414B-8003-8B3CBE6003B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5CAD-757F-4E34-A56E-1054490CCB3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6AA2-2F47-47A3-B4EB-4A040AADA17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6C69-AC51-49EC-A477-2367C9A794F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B84A-4156-4606-BB35-412CD518702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01F0-9A48-401A-9130-3C75D785C6C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AC8A-DFB2-4F63-9BD7-8115E386241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F8F9-FAF1-49DF-A692-C229044D053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BED7-93B9-4813-96C0-873C67A636A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193D-9C0B-4FA9-910E-88C8C60B47A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853F-5C6F-4993-804B-E77FF719AD7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20DF-17A0-4CE5-9F00-42D9BD4C029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9D12-666C-4370-B70F-4429081B970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B166-2B0D-4458-823F-664CC292987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5157-F05A-4E85-9417-FC026B8D979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23CD-2530-485D-A619-0B10050384D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05F0-D06C-4BA0-89AF-3D41A438675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4A06-E442-4989-9CE1-EB62BE79653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34E3-ED87-4416-865C-2CB7B0AB8A1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B46A-5D55-4CAC-AC86-BB2FF1AC8E8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24.tif"/><Relationship Id="rId9" Type="http://schemas.openxmlformats.org/officeDocument/2006/relationships/image" Target="../media/image25.tif"/><Relationship Id="rId10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26.tif"/><Relationship Id="rId9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2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3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23.tif"/><Relationship Id="rId9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"/>
          <p:cNvGrpSpPr/>
          <p:nvPr/>
        </p:nvGrpSpPr>
        <p:grpSpPr>
          <a:xfrm>
            <a:off x="2284560" y="2448000"/>
            <a:ext cx="4475160" cy="360"/>
            <a:chOff x="2284560" y="2448000"/>
            <a:chExt cx="4475160" cy="360"/>
          </a:xfrm>
        </p:grpSpPr>
        <p:sp>
          <p:nvSpPr>
            <p:cNvPr id="987" name="Line 10"/>
            <p:cNvSpPr/>
            <p:nvPr/>
          </p:nvSpPr>
          <p:spPr>
            <a:xfrm>
              <a:off x="2284560" y="2448000"/>
              <a:ext cx="447516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>
              <a:off x="2284560" y="2448000"/>
              <a:ext cx="4475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9"/>
          <p:cNvSpPr/>
          <p:nvPr/>
        </p:nvSpPr>
        <p:spPr>
          <a:xfrm>
            <a:off x="-1163520" y="1744560"/>
            <a:ext cx="88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位数乘一位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5"/>
          <p:cNvSpPr/>
          <p:nvPr/>
        </p:nvSpPr>
        <p:spPr>
          <a:xfrm>
            <a:off x="2970360" y="271620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6"/>
          <p:cNvSpPr/>
          <p:nvPr/>
        </p:nvSpPr>
        <p:spPr>
          <a:xfrm>
            <a:off x="2428920" y="2666880"/>
            <a:ext cx="6483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解 决 问 题 （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三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1" name="组合 2"/>
          <p:cNvGrpSpPr/>
          <p:nvPr/>
        </p:nvGrpSpPr>
        <p:grpSpPr>
          <a:xfrm>
            <a:off x="0" y="90360"/>
            <a:ext cx="3244680" cy="525600"/>
            <a:chOff x="0" y="90360"/>
            <a:chExt cx="3244680" cy="525600"/>
          </a:xfrm>
        </p:grpSpPr>
        <p:pic>
          <p:nvPicPr>
            <p:cNvPr id="113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9036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3" name="组合 4"/>
            <p:cNvGrpSpPr/>
            <p:nvPr/>
          </p:nvGrpSpPr>
          <p:grpSpPr>
            <a:xfrm>
              <a:off x="0" y="186120"/>
              <a:ext cx="429840" cy="271800"/>
              <a:chOff x="0" y="186120"/>
              <a:chExt cx="429840" cy="271800"/>
            </a:xfrm>
          </p:grpSpPr>
          <p:sp>
            <p:nvSpPr>
              <p:cNvPr id="1134" name="椭圆 1"/>
              <p:cNvSpPr/>
              <p:nvPr/>
            </p:nvSpPr>
            <p:spPr>
              <a:xfrm rot="16200000">
                <a:off x="243000" y="34884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5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124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6" name="椭圆 29"/>
              <p:cNvSpPr/>
              <p:nvPr/>
            </p:nvSpPr>
            <p:spPr>
              <a:xfrm rot="16200000">
                <a:off x="243000" y="22284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005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286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006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13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861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42" name="文本框 99"/>
          <p:cNvSpPr/>
          <p:nvPr/>
        </p:nvSpPr>
        <p:spPr>
          <a:xfrm>
            <a:off x="279360" y="870120"/>
            <a:ext cx="47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看图列综合算式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图片 1073742916" descr="TBRJ-6A"/>
          <p:cNvPicPr/>
          <p:nvPr/>
        </p:nvPicPr>
        <p:blipFill>
          <a:blip r:embed="rId8"/>
          <a:stretch/>
        </p:blipFill>
        <p:spPr>
          <a:xfrm>
            <a:off x="1104840" y="1550880"/>
            <a:ext cx="1865520" cy="795600"/>
          </a:xfrm>
          <a:prstGeom prst="rect">
            <a:avLst/>
          </a:prstGeom>
          <a:ln w="0">
            <a:noFill/>
          </a:ln>
        </p:spPr>
      </p:pic>
      <p:sp>
        <p:nvSpPr>
          <p:cNvPr id="1144" name="文本框 2"/>
          <p:cNvSpPr/>
          <p:nvPr/>
        </p:nvSpPr>
        <p:spPr>
          <a:xfrm>
            <a:off x="425520" y="172080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文本框 3"/>
          <p:cNvSpPr/>
          <p:nvPr/>
        </p:nvSpPr>
        <p:spPr>
          <a:xfrm>
            <a:off x="542880" y="389268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6" name="图片 1073742917" descr="TBRJ-6B"/>
          <p:cNvPicPr/>
          <p:nvPr/>
        </p:nvPicPr>
        <p:blipFill>
          <a:blip r:embed="rId9"/>
          <a:stretch/>
        </p:blipFill>
        <p:spPr>
          <a:xfrm>
            <a:off x="1104840" y="3787920"/>
            <a:ext cx="2752920" cy="755640"/>
          </a:xfrm>
          <a:prstGeom prst="rect">
            <a:avLst/>
          </a:prstGeom>
          <a:ln w="0">
            <a:noFill/>
          </a:ln>
        </p:spPr>
      </p:pic>
      <p:sp>
        <p:nvSpPr>
          <p:cNvPr id="1147" name="文本框 2"/>
          <p:cNvSpPr/>
          <p:nvPr/>
        </p:nvSpPr>
        <p:spPr>
          <a:xfrm>
            <a:off x="1104840" y="2854440"/>
            <a:ext cx="339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÷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×6=18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（千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文本框 3"/>
          <p:cNvSpPr/>
          <p:nvPr/>
        </p:nvSpPr>
        <p:spPr>
          <a:xfrm>
            <a:off x="1104840" y="5051520"/>
            <a:ext cx="29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×1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÷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=5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9" name="组合 2"/>
          <p:cNvGrpSpPr/>
          <p:nvPr/>
        </p:nvGrpSpPr>
        <p:grpSpPr>
          <a:xfrm>
            <a:off x="0" y="90360"/>
            <a:ext cx="3244680" cy="525600"/>
            <a:chOff x="0" y="90360"/>
            <a:chExt cx="3244680" cy="525600"/>
          </a:xfrm>
        </p:grpSpPr>
        <p:pic>
          <p:nvPicPr>
            <p:cNvPr id="115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9036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1" name="组合 4"/>
            <p:cNvGrpSpPr/>
            <p:nvPr/>
          </p:nvGrpSpPr>
          <p:grpSpPr>
            <a:xfrm>
              <a:off x="0" y="186120"/>
              <a:ext cx="429840" cy="271800"/>
              <a:chOff x="0" y="186120"/>
              <a:chExt cx="429840" cy="271800"/>
            </a:xfrm>
          </p:grpSpPr>
          <p:sp>
            <p:nvSpPr>
              <p:cNvPr id="1152" name="椭圆 1"/>
              <p:cNvSpPr/>
              <p:nvPr/>
            </p:nvSpPr>
            <p:spPr>
              <a:xfrm rot="16200000">
                <a:off x="243000" y="34884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3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124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4" name="椭圆 29"/>
              <p:cNvSpPr/>
              <p:nvPr/>
            </p:nvSpPr>
            <p:spPr>
              <a:xfrm rot="16200000">
                <a:off x="243000" y="22284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005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286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006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13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861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60" name="文本框 99"/>
          <p:cNvSpPr/>
          <p:nvPr/>
        </p:nvSpPr>
        <p:spPr>
          <a:xfrm>
            <a:off x="365040" y="1093680"/>
            <a:ext cx="810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同学们排队做操，每行排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，正好排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。如果每行排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，可以排多少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文本框 2"/>
          <p:cNvSpPr/>
          <p:nvPr/>
        </p:nvSpPr>
        <p:spPr>
          <a:xfrm>
            <a:off x="1936800" y="2732040"/>
            <a:ext cx="27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×4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÷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=6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文本框 3"/>
          <p:cNvSpPr/>
          <p:nvPr/>
        </p:nvSpPr>
        <p:spPr>
          <a:xfrm>
            <a:off x="1770120" y="3452760"/>
            <a:ext cx="464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可以排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3" name="组合 2"/>
          <p:cNvGrpSpPr/>
          <p:nvPr/>
        </p:nvGrpSpPr>
        <p:grpSpPr>
          <a:xfrm>
            <a:off x="0" y="90360"/>
            <a:ext cx="3244680" cy="525600"/>
            <a:chOff x="0" y="90360"/>
            <a:chExt cx="3244680" cy="525600"/>
          </a:xfrm>
        </p:grpSpPr>
        <p:pic>
          <p:nvPicPr>
            <p:cNvPr id="1164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9036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5" name="组合 4"/>
            <p:cNvGrpSpPr/>
            <p:nvPr/>
          </p:nvGrpSpPr>
          <p:grpSpPr>
            <a:xfrm>
              <a:off x="0" y="186120"/>
              <a:ext cx="429840" cy="271800"/>
              <a:chOff x="0" y="186120"/>
              <a:chExt cx="429840" cy="271800"/>
            </a:xfrm>
          </p:grpSpPr>
          <p:sp>
            <p:nvSpPr>
              <p:cNvPr id="1166" name="椭圆 1"/>
              <p:cNvSpPr/>
              <p:nvPr/>
            </p:nvSpPr>
            <p:spPr>
              <a:xfrm rot="16200000">
                <a:off x="243000" y="34884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7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124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8" name="椭圆 29"/>
              <p:cNvSpPr/>
              <p:nvPr/>
            </p:nvSpPr>
            <p:spPr>
              <a:xfrm rot="16200000">
                <a:off x="243000" y="22284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005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286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006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13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861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74" name="文本框 2"/>
          <p:cNvSpPr/>
          <p:nvPr/>
        </p:nvSpPr>
        <p:spPr>
          <a:xfrm>
            <a:off x="179280" y="923760"/>
            <a:ext cx="819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小青拿了一些小棒摆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三角形，如果用这些小棒摆四边形，可以摆出多少个？（图形的边不能重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5" name="图片 1073742918" descr="TBRJ-7"/>
          <p:cNvPicPr/>
          <p:nvPr/>
        </p:nvPicPr>
        <p:blipFill>
          <a:blip r:embed="rId8"/>
          <a:stretch/>
        </p:blipFill>
        <p:spPr>
          <a:xfrm>
            <a:off x="5456160" y="3209760"/>
            <a:ext cx="2637000" cy="1024200"/>
          </a:xfrm>
          <a:prstGeom prst="rect">
            <a:avLst/>
          </a:prstGeom>
          <a:ln w="0">
            <a:noFill/>
          </a:ln>
        </p:spPr>
      </p:pic>
      <p:sp>
        <p:nvSpPr>
          <p:cNvPr id="1176" name="文本框 3"/>
          <p:cNvSpPr/>
          <p:nvPr/>
        </p:nvSpPr>
        <p:spPr>
          <a:xfrm>
            <a:off x="663480" y="2809800"/>
            <a:ext cx="292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×8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÷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=6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文本框 2"/>
          <p:cNvSpPr/>
          <p:nvPr/>
        </p:nvSpPr>
        <p:spPr>
          <a:xfrm>
            <a:off x="655560" y="3697200"/>
            <a:ext cx="37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答：可以摆出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3"/>
          <p:cNvSpPr/>
          <p:nvPr/>
        </p:nvSpPr>
        <p:spPr>
          <a:xfrm>
            <a:off x="395280" y="420552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问题：这个问题熟悉吗？还记得怎样解答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Box 4"/>
          <p:cNvSpPr/>
          <p:nvPr/>
        </p:nvSpPr>
        <p:spPr>
          <a:xfrm>
            <a:off x="782640" y="946080"/>
            <a:ext cx="79772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妈妈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个碗用了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元。如果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个同样的碗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需要多少钱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0" name="Picture 16" descr=""/>
          <p:cNvPicPr/>
          <p:nvPr/>
        </p:nvPicPr>
        <p:blipFill>
          <a:blip r:embed="rId1"/>
          <a:stretch/>
        </p:blipFill>
        <p:spPr>
          <a:xfrm>
            <a:off x="1258920" y="2181240"/>
            <a:ext cx="6480000" cy="1870200"/>
          </a:xfrm>
          <a:prstGeom prst="rect">
            <a:avLst/>
          </a:prstGeom>
          <a:ln w="0">
            <a:noFill/>
          </a:ln>
        </p:spPr>
      </p:pic>
      <p:grpSp>
        <p:nvGrpSpPr>
          <p:cNvPr id="1001" name="组合 2"/>
          <p:cNvGrpSpPr/>
          <p:nvPr/>
        </p:nvGrpSpPr>
        <p:grpSpPr>
          <a:xfrm>
            <a:off x="0" y="90360"/>
            <a:ext cx="3244680" cy="525600"/>
            <a:chOff x="0" y="90360"/>
            <a:chExt cx="3244680" cy="525600"/>
          </a:xfrm>
        </p:grpSpPr>
        <p:pic>
          <p:nvPicPr>
            <p:cNvPr id="1002" name="圆角矩形 3" descr=""/>
            <p:cNvPicPr/>
            <p:nvPr/>
          </p:nvPicPr>
          <p:blipFill>
            <a:blip r:embed="rId2"/>
            <a:stretch/>
          </p:blipFill>
          <p:spPr>
            <a:xfrm>
              <a:off x="150480" y="9036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3" name="组合 4"/>
            <p:cNvGrpSpPr/>
            <p:nvPr/>
          </p:nvGrpSpPr>
          <p:grpSpPr>
            <a:xfrm>
              <a:off x="0" y="186120"/>
              <a:ext cx="429840" cy="271800"/>
              <a:chOff x="0" y="186120"/>
              <a:chExt cx="429840" cy="271800"/>
            </a:xfrm>
          </p:grpSpPr>
          <p:sp>
            <p:nvSpPr>
              <p:cNvPr id="1004" name="椭圆 8"/>
              <p:cNvSpPr/>
              <p:nvPr/>
            </p:nvSpPr>
            <p:spPr>
              <a:xfrm rot="16200000">
                <a:off x="243000" y="34884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5" name="椭圆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3124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6" name="椭圆 10"/>
              <p:cNvSpPr/>
              <p:nvPr/>
            </p:nvSpPr>
            <p:spPr>
              <a:xfrm rot="16200000">
                <a:off x="243000" y="22284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7" name="椭圆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2005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286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9" name="圆角矩形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006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0" name="圆角矩形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13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1" name="圆角矩形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1861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组合 2"/>
          <p:cNvGrpSpPr/>
          <p:nvPr/>
        </p:nvGrpSpPr>
        <p:grpSpPr>
          <a:xfrm>
            <a:off x="0" y="90360"/>
            <a:ext cx="3244680" cy="525600"/>
            <a:chOff x="0" y="90360"/>
            <a:chExt cx="3244680" cy="525600"/>
          </a:xfrm>
        </p:grpSpPr>
        <p:pic>
          <p:nvPicPr>
            <p:cNvPr id="101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9036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4" name="组合 4"/>
            <p:cNvGrpSpPr/>
            <p:nvPr/>
          </p:nvGrpSpPr>
          <p:grpSpPr>
            <a:xfrm>
              <a:off x="0" y="186120"/>
              <a:ext cx="429840" cy="271800"/>
              <a:chOff x="0" y="186120"/>
              <a:chExt cx="429840" cy="271800"/>
            </a:xfrm>
          </p:grpSpPr>
          <p:sp>
            <p:nvSpPr>
              <p:cNvPr id="1015" name="椭圆 1"/>
              <p:cNvSpPr/>
              <p:nvPr/>
            </p:nvSpPr>
            <p:spPr>
              <a:xfrm rot="16200000">
                <a:off x="243000" y="34884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6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124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7" name="椭圆 29"/>
              <p:cNvSpPr/>
              <p:nvPr/>
            </p:nvSpPr>
            <p:spPr>
              <a:xfrm rot="16200000">
                <a:off x="243000" y="22284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005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286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006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13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861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23" name="Rectangle 12"/>
          <p:cNvSpPr/>
          <p:nvPr/>
        </p:nvSpPr>
        <p:spPr>
          <a:xfrm>
            <a:off x="573120" y="725400"/>
            <a:ext cx="863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妈妈的钱买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元一个的碗，正好可以买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个。用这些钱买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9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元一个的碗，可以买几个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八边形 2"/>
          <p:cNvSpPr/>
          <p:nvPr/>
        </p:nvSpPr>
        <p:spPr>
          <a:xfrm>
            <a:off x="279360" y="808200"/>
            <a:ext cx="514440" cy="51732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Box 3"/>
          <p:cNvSpPr/>
          <p:nvPr/>
        </p:nvSpPr>
        <p:spPr>
          <a:xfrm>
            <a:off x="573120" y="1909800"/>
            <a:ext cx="349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6d86a4"/>
                </a:solidFill>
                <a:latin typeface="Arial"/>
                <a:ea typeface="宋体"/>
              </a:rPr>
              <a:t>阅读与理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6" name=""/>
          <p:cNvGraphicFramePr/>
          <p:nvPr/>
        </p:nvGraphicFramePr>
        <p:xfrm>
          <a:off x="1744560" y="4341960"/>
          <a:ext cx="4803840" cy="1828800"/>
        </p:xfrm>
        <a:graphic>
          <a:graphicData uri="http://schemas.openxmlformats.org/drawingml/2006/table">
            <a:tbl>
              <a:tblPr/>
              <a:tblGrid>
                <a:gridCol w="1182600"/>
                <a:gridCol w="362124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已知条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妈妈的钱买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元一个的碗，正好可以买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个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7fbd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所求问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用这些钱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一个的碗，可以买几个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</a:tr>
            </a:tbl>
          </a:graphicData>
        </a:graphic>
      </p:graphicFrame>
      <p:pic>
        <p:nvPicPr>
          <p:cNvPr id="1027" name="图片 8201" descr="06"/>
          <p:cNvPicPr/>
          <p:nvPr/>
        </p:nvPicPr>
        <p:blipFill>
          <a:blip r:embed="rId8"/>
          <a:stretch/>
        </p:blipFill>
        <p:spPr>
          <a:xfrm>
            <a:off x="2367000" y="2633760"/>
            <a:ext cx="4181400" cy="14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组合 2"/>
          <p:cNvGrpSpPr/>
          <p:nvPr/>
        </p:nvGrpSpPr>
        <p:grpSpPr>
          <a:xfrm>
            <a:off x="0" y="90360"/>
            <a:ext cx="3244680" cy="525600"/>
            <a:chOff x="0" y="90360"/>
            <a:chExt cx="3244680" cy="525600"/>
          </a:xfrm>
        </p:grpSpPr>
        <p:pic>
          <p:nvPicPr>
            <p:cNvPr id="102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9036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0" name="组合 4"/>
            <p:cNvGrpSpPr/>
            <p:nvPr/>
          </p:nvGrpSpPr>
          <p:grpSpPr>
            <a:xfrm>
              <a:off x="0" y="186120"/>
              <a:ext cx="429840" cy="271800"/>
              <a:chOff x="0" y="186120"/>
              <a:chExt cx="429840" cy="271800"/>
            </a:xfrm>
          </p:grpSpPr>
          <p:sp>
            <p:nvSpPr>
              <p:cNvPr id="1031" name="椭圆 1"/>
              <p:cNvSpPr/>
              <p:nvPr/>
            </p:nvSpPr>
            <p:spPr>
              <a:xfrm rot="16200000">
                <a:off x="243000" y="34884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2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124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3" name="椭圆 29"/>
              <p:cNvSpPr/>
              <p:nvPr/>
            </p:nvSpPr>
            <p:spPr>
              <a:xfrm rot="16200000">
                <a:off x="243000" y="22284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005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286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006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13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861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39" name="TextBox 3"/>
          <p:cNvSpPr/>
          <p:nvPr/>
        </p:nvSpPr>
        <p:spPr>
          <a:xfrm>
            <a:off x="365040" y="820800"/>
            <a:ext cx="3492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70c0"/>
                </a:solidFill>
                <a:latin typeface="Arial"/>
                <a:ea typeface="宋体"/>
              </a:rPr>
              <a:t>分析与解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0" name="组合 9"/>
          <p:cNvGrpSpPr/>
          <p:nvPr/>
        </p:nvGrpSpPr>
        <p:grpSpPr>
          <a:xfrm>
            <a:off x="1928880" y="3927600"/>
            <a:ext cx="4786200" cy="1714320"/>
            <a:chOff x="1928880" y="3927600"/>
            <a:chExt cx="4786200" cy="1714320"/>
          </a:xfrm>
        </p:grpSpPr>
        <p:sp>
          <p:nvSpPr>
            <p:cNvPr id="1041" name="圆角矩形 9"/>
            <p:cNvSpPr/>
            <p:nvPr/>
          </p:nvSpPr>
          <p:spPr>
            <a:xfrm>
              <a:off x="1928880" y="3927600"/>
              <a:ext cx="4786200" cy="1714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TextBox 4"/>
            <p:cNvSpPr/>
            <p:nvPr/>
          </p:nvSpPr>
          <p:spPr>
            <a:xfrm>
              <a:off x="2000520" y="4269240"/>
              <a:ext cx="23572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6×6=36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元）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36÷9=4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个）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TextBox 4"/>
            <p:cNvSpPr/>
            <p:nvPr/>
          </p:nvSpPr>
          <p:spPr>
            <a:xfrm>
              <a:off x="4643640" y="4021560"/>
              <a:ext cx="178560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6×6÷9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=36÷9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=4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个）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直接连接符 12"/>
            <p:cNvSpPr/>
            <p:nvPr/>
          </p:nvSpPr>
          <p:spPr>
            <a:xfrm>
              <a:off x="4249800" y="3927600"/>
              <a:ext cx="0" cy="171432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5" name="组合 8"/>
          <p:cNvGrpSpPr/>
          <p:nvPr/>
        </p:nvGrpSpPr>
        <p:grpSpPr>
          <a:xfrm>
            <a:off x="1928880" y="2606760"/>
            <a:ext cx="6195960" cy="1066680"/>
            <a:chOff x="1928880" y="2606760"/>
            <a:chExt cx="6195960" cy="1066680"/>
          </a:xfrm>
        </p:grpSpPr>
        <p:sp>
          <p:nvSpPr>
            <p:cNvPr id="1046" name="AutoShape 27"/>
            <p:cNvSpPr/>
            <p:nvPr/>
          </p:nvSpPr>
          <p:spPr>
            <a:xfrm>
              <a:off x="1928880" y="2783160"/>
              <a:ext cx="4785840" cy="713880"/>
            </a:xfrm>
            <a:prstGeom prst="wedgeRoundRectCallout">
              <a:avLst>
                <a:gd name="adj1" fmla="val 57032"/>
                <a:gd name="adj2" fmla="val 3303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知道了这笔钱有多少，再算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……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7" name="图片 3" descr="6)5][}VZ%@FXJ)FA]TI76$O"/>
            <p:cNvPicPr/>
            <p:nvPr/>
          </p:nvPicPr>
          <p:blipFill>
            <a:blip r:embed="rId8"/>
            <a:stretch/>
          </p:blipFill>
          <p:spPr>
            <a:xfrm>
              <a:off x="7123680" y="2606760"/>
              <a:ext cx="100116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8" name="组合 6"/>
          <p:cNvGrpSpPr/>
          <p:nvPr/>
        </p:nvGrpSpPr>
        <p:grpSpPr>
          <a:xfrm>
            <a:off x="593640" y="1406520"/>
            <a:ext cx="5214960" cy="1200240"/>
            <a:chOff x="593640" y="1406520"/>
            <a:chExt cx="5214960" cy="1200240"/>
          </a:xfrm>
        </p:grpSpPr>
        <p:sp>
          <p:nvSpPr>
            <p:cNvPr id="1049" name="AutoShape 27"/>
            <p:cNvSpPr/>
            <p:nvPr/>
          </p:nvSpPr>
          <p:spPr>
            <a:xfrm>
              <a:off x="1952280" y="1406520"/>
              <a:ext cx="3856320" cy="856440"/>
            </a:xfrm>
            <a:prstGeom prst="wedgeRoundRectCallout">
              <a:avLst>
                <a:gd name="adj1" fmla="val -56972"/>
                <a:gd name="adj2" fmla="val 3215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根据</a:t>
              </a:r>
              <a:r>
                <a:rPr b="0" lang="en-US" sz="2500" spc="-1" strike="noStrike">
                  <a:solidFill>
                    <a:srgbClr val="1c1c1c"/>
                  </a:solidFill>
                  <a:latin typeface="宋体"/>
                </a:rPr>
                <a:t>6</a:t>
              </a: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元一个的碗可以买</a:t>
              </a:r>
              <a:r>
                <a:rPr b="0" lang="en-US" sz="2500" spc="-1" strike="noStrike">
                  <a:solidFill>
                    <a:srgbClr val="1c1c1c"/>
                  </a:solidFill>
                  <a:latin typeface="宋体"/>
                </a:rPr>
                <a:t>6</a:t>
              </a: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个，可以算出总价钱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0" name="图片 4" descr="]@P`{@U$K{A7A$9804YYMFT"/>
            <p:cNvPicPr/>
            <p:nvPr/>
          </p:nvPicPr>
          <p:blipFill>
            <a:blip r:embed="rId9"/>
            <a:stretch/>
          </p:blipFill>
          <p:spPr>
            <a:xfrm>
              <a:off x="593640" y="1406520"/>
              <a:ext cx="945360" cy="12002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1" name="组合 2"/>
          <p:cNvGrpSpPr/>
          <p:nvPr/>
        </p:nvGrpSpPr>
        <p:grpSpPr>
          <a:xfrm>
            <a:off x="0" y="90360"/>
            <a:ext cx="3244680" cy="525600"/>
            <a:chOff x="0" y="90360"/>
            <a:chExt cx="3244680" cy="525600"/>
          </a:xfrm>
        </p:grpSpPr>
        <p:pic>
          <p:nvPicPr>
            <p:cNvPr id="105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9036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3" name="组合 4"/>
            <p:cNvGrpSpPr/>
            <p:nvPr/>
          </p:nvGrpSpPr>
          <p:grpSpPr>
            <a:xfrm>
              <a:off x="0" y="186120"/>
              <a:ext cx="429840" cy="271800"/>
              <a:chOff x="0" y="186120"/>
              <a:chExt cx="429840" cy="271800"/>
            </a:xfrm>
          </p:grpSpPr>
          <p:sp>
            <p:nvSpPr>
              <p:cNvPr id="1054" name="椭圆 1"/>
              <p:cNvSpPr/>
              <p:nvPr/>
            </p:nvSpPr>
            <p:spPr>
              <a:xfrm rot="16200000">
                <a:off x="243000" y="34884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5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124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6" name="椭圆 29"/>
              <p:cNvSpPr/>
              <p:nvPr/>
            </p:nvSpPr>
            <p:spPr>
              <a:xfrm rot="16200000">
                <a:off x="243000" y="22284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005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286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006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13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861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2" name="Rectangle 3"/>
          <p:cNvSpPr/>
          <p:nvPr/>
        </p:nvSpPr>
        <p:spPr>
          <a:xfrm>
            <a:off x="-98280" y="451440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问题：观察我们研究的这两个实际问题，你有什么想对大家说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Box 4"/>
          <p:cNvSpPr/>
          <p:nvPr/>
        </p:nvSpPr>
        <p:spPr>
          <a:xfrm>
            <a:off x="169920" y="144000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妈妈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个碗用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元。如果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个同样的碗，需要多少钱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18"/>
          <p:cNvSpPr/>
          <p:nvPr/>
        </p:nvSpPr>
        <p:spPr>
          <a:xfrm>
            <a:off x="4363920" y="1440000"/>
            <a:ext cx="452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妈妈的钱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元一个的碗，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好可以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个。用这些钱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元一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的碗，可以买几个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20"/>
          <p:cNvSpPr/>
          <p:nvPr/>
        </p:nvSpPr>
        <p:spPr>
          <a:xfrm>
            <a:off x="4292640" y="1415880"/>
            <a:ext cx="0" cy="2562480"/>
          </a:xfrm>
          <a:prstGeom prst="line">
            <a:avLst/>
          </a:prstGeom>
          <a:ln w="19080">
            <a:solidFill>
              <a:srgbClr val="3399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7"/>
          <p:cNvSpPr/>
          <p:nvPr/>
        </p:nvSpPr>
        <p:spPr>
          <a:xfrm>
            <a:off x="179280" y="61596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宋体"/>
              </a:rPr>
              <a:t>对比感悟，提升认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7" name="Picture 16" descr=""/>
          <p:cNvPicPr/>
          <p:nvPr/>
        </p:nvPicPr>
        <p:blipFill>
          <a:blip r:embed="rId8"/>
          <a:stretch/>
        </p:blipFill>
        <p:spPr>
          <a:xfrm>
            <a:off x="395280" y="2798640"/>
            <a:ext cx="3608280" cy="1041480"/>
          </a:xfrm>
          <a:prstGeom prst="rect">
            <a:avLst/>
          </a:prstGeom>
          <a:ln w="0">
            <a:noFill/>
          </a:ln>
        </p:spPr>
      </p:pic>
      <p:pic>
        <p:nvPicPr>
          <p:cNvPr id="1068" name="图片 9227" descr="06"/>
          <p:cNvPicPr/>
          <p:nvPr/>
        </p:nvPicPr>
        <p:blipFill>
          <a:blip r:embed="rId9"/>
          <a:stretch/>
        </p:blipFill>
        <p:spPr>
          <a:xfrm>
            <a:off x="4861080" y="2751120"/>
            <a:ext cx="3135240" cy="10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9" name="组合 2"/>
          <p:cNvGrpSpPr/>
          <p:nvPr/>
        </p:nvGrpSpPr>
        <p:grpSpPr>
          <a:xfrm>
            <a:off x="0" y="90360"/>
            <a:ext cx="3244680" cy="525600"/>
            <a:chOff x="0" y="90360"/>
            <a:chExt cx="3244680" cy="525600"/>
          </a:xfrm>
        </p:grpSpPr>
        <p:pic>
          <p:nvPicPr>
            <p:cNvPr id="107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9036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1" name="组合 4"/>
            <p:cNvGrpSpPr/>
            <p:nvPr/>
          </p:nvGrpSpPr>
          <p:grpSpPr>
            <a:xfrm>
              <a:off x="0" y="186120"/>
              <a:ext cx="429840" cy="271800"/>
              <a:chOff x="0" y="186120"/>
              <a:chExt cx="429840" cy="271800"/>
            </a:xfrm>
          </p:grpSpPr>
          <p:sp>
            <p:nvSpPr>
              <p:cNvPr id="1072" name="椭圆 1"/>
              <p:cNvSpPr/>
              <p:nvPr/>
            </p:nvSpPr>
            <p:spPr>
              <a:xfrm rot="16200000">
                <a:off x="243000" y="34884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3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124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椭圆 29"/>
              <p:cNvSpPr/>
              <p:nvPr/>
            </p:nvSpPr>
            <p:spPr>
              <a:xfrm rot="16200000">
                <a:off x="243000" y="22284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005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286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006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13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861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80" name="TextBox 3"/>
          <p:cNvSpPr/>
          <p:nvPr/>
        </p:nvSpPr>
        <p:spPr>
          <a:xfrm>
            <a:off x="365040" y="784080"/>
            <a:ext cx="3492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4f81bd"/>
                </a:solidFill>
                <a:latin typeface="宋体"/>
                <a:ea typeface="宋体"/>
              </a:rPr>
              <a:t>回顾与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8"/>
          <p:cNvSpPr/>
          <p:nvPr/>
        </p:nvSpPr>
        <p:spPr>
          <a:xfrm>
            <a:off x="2643120" y="3436920"/>
            <a:ext cx="235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答：可以买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个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2" name="组合 8"/>
          <p:cNvGrpSpPr/>
          <p:nvPr/>
        </p:nvGrpSpPr>
        <p:grpSpPr>
          <a:xfrm>
            <a:off x="1547640" y="4240080"/>
            <a:ext cx="4424400" cy="1202040"/>
            <a:chOff x="1547640" y="4240080"/>
            <a:chExt cx="4424400" cy="1202040"/>
          </a:xfrm>
        </p:grpSpPr>
        <p:sp>
          <p:nvSpPr>
            <p:cNvPr id="1083" name="AutoShape 27"/>
            <p:cNvSpPr/>
            <p:nvPr/>
          </p:nvSpPr>
          <p:spPr>
            <a:xfrm>
              <a:off x="3013920" y="4429080"/>
              <a:ext cx="2958120" cy="822600"/>
            </a:xfrm>
            <a:prstGeom prst="wedgeRoundRectCallout">
              <a:avLst>
                <a:gd name="adj1" fmla="val -59050"/>
                <a:gd name="adj2" fmla="val 644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你是怎样解答的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4" name="图片 2" descr="]@P`{@U$K{A7A$9804YYMFT"/>
            <p:cNvPicPr/>
            <p:nvPr/>
          </p:nvPicPr>
          <p:blipFill>
            <a:blip r:embed="rId8"/>
            <a:stretch/>
          </p:blipFill>
          <p:spPr>
            <a:xfrm>
              <a:off x="1547640" y="4240080"/>
              <a:ext cx="1003680" cy="120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5" name="组合 10"/>
          <p:cNvGrpSpPr/>
          <p:nvPr/>
        </p:nvGrpSpPr>
        <p:grpSpPr>
          <a:xfrm>
            <a:off x="1714680" y="1932120"/>
            <a:ext cx="5259240" cy="1166760"/>
            <a:chOff x="1714680" y="1932120"/>
            <a:chExt cx="5259240" cy="1166760"/>
          </a:xfrm>
        </p:grpSpPr>
        <p:sp>
          <p:nvSpPr>
            <p:cNvPr id="1086" name="AutoShape 27"/>
            <p:cNvSpPr/>
            <p:nvPr/>
          </p:nvSpPr>
          <p:spPr>
            <a:xfrm>
              <a:off x="1714680" y="1932120"/>
              <a:ext cx="3929040" cy="997200"/>
            </a:xfrm>
            <a:prstGeom prst="wedgeRoundRectCallout">
              <a:avLst>
                <a:gd name="adj1" fmla="val 57032"/>
                <a:gd name="adj2" fmla="val 3303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9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元的碗和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6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6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元的碗，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总价钱一样。正确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7" name="图片 9" descr="6)5][}VZ%@FXJ)FA]TI76$O"/>
            <p:cNvPicPr/>
            <p:nvPr/>
          </p:nvPicPr>
          <p:blipFill>
            <a:blip r:embed="rId9"/>
            <a:stretch/>
          </p:blipFill>
          <p:spPr>
            <a:xfrm>
              <a:off x="5972760" y="2031120"/>
              <a:ext cx="1001160" cy="1067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8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91" name="椭圆 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99" name="文本框 2"/>
          <p:cNvSpPr/>
          <p:nvPr/>
        </p:nvSpPr>
        <p:spPr>
          <a:xfrm>
            <a:off x="379440" y="979560"/>
            <a:ext cx="83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乘、除法解决两步计算的问题（先找出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总量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文本框 3"/>
          <p:cNvSpPr/>
          <p:nvPr/>
        </p:nvSpPr>
        <p:spPr>
          <a:xfrm>
            <a:off x="554040" y="1814400"/>
            <a:ext cx="761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解决问题时，要学会分析问题的方法，弄清数量之间的关系（特别是注意题目中没有发生变化的量），再列式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0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3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04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6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12" name="TextBox 4"/>
          <p:cNvSpPr/>
          <p:nvPr/>
        </p:nvSpPr>
        <p:spPr>
          <a:xfrm>
            <a:off x="635040" y="981000"/>
            <a:ext cx="72784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小华读一本书，每天读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页，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天可以读完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如果每天读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页，几天可以读完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如果他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天读完这本书，平均每天读几页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Box 5"/>
          <p:cNvSpPr/>
          <p:nvPr/>
        </p:nvSpPr>
        <p:spPr>
          <a:xfrm>
            <a:off x="1920960" y="2427120"/>
            <a:ext cx="35719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×6÷8=3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天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答：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天可以读完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Box 7"/>
          <p:cNvSpPr/>
          <p:nvPr/>
        </p:nvSpPr>
        <p:spPr>
          <a:xfrm>
            <a:off x="2085840" y="4681440"/>
            <a:ext cx="35719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×6÷3=8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页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答：平均每天读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页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5" name="组合 2"/>
          <p:cNvGrpSpPr/>
          <p:nvPr/>
        </p:nvGrpSpPr>
        <p:grpSpPr>
          <a:xfrm>
            <a:off x="0" y="90360"/>
            <a:ext cx="3244680" cy="525600"/>
            <a:chOff x="0" y="90360"/>
            <a:chExt cx="3244680" cy="525600"/>
          </a:xfrm>
        </p:grpSpPr>
        <p:pic>
          <p:nvPicPr>
            <p:cNvPr id="1116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9036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7" name="组合 4"/>
            <p:cNvGrpSpPr/>
            <p:nvPr/>
          </p:nvGrpSpPr>
          <p:grpSpPr>
            <a:xfrm>
              <a:off x="0" y="186120"/>
              <a:ext cx="429840" cy="271800"/>
              <a:chOff x="0" y="186120"/>
              <a:chExt cx="429840" cy="271800"/>
            </a:xfrm>
          </p:grpSpPr>
          <p:sp>
            <p:nvSpPr>
              <p:cNvPr id="1118" name="椭圆 1"/>
              <p:cNvSpPr/>
              <p:nvPr/>
            </p:nvSpPr>
            <p:spPr>
              <a:xfrm rot="16200000">
                <a:off x="243000" y="34884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9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124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0" name="椭圆 29"/>
              <p:cNvSpPr/>
              <p:nvPr/>
            </p:nvSpPr>
            <p:spPr>
              <a:xfrm rot="16200000">
                <a:off x="243000" y="22284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005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286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006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13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861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26" name="文本框 99"/>
          <p:cNvSpPr/>
          <p:nvPr/>
        </p:nvSpPr>
        <p:spPr>
          <a:xfrm>
            <a:off x="441360" y="911160"/>
            <a:ext cx="27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拔萝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7" name="图片 -2147482624" descr="TBRJ-5"/>
          <p:cNvPicPr/>
          <p:nvPr/>
        </p:nvPicPr>
        <p:blipFill>
          <a:blip r:embed="rId8"/>
          <a:stretch/>
        </p:blipFill>
        <p:spPr>
          <a:xfrm>
            <a:off x="874800" y="1593720"/>
            <a:ext cx="6397560" cy="1051200"/>
          </a:xfrm>
          <a:prstGeom prst="rect">
            <a:avLst/>
          </a:prstGeom>
          <a:ln w="0">
            <a:noFill/>
          </a:ln>
        </p:spPr>
      </p:pic>
      <p:sp>
        <p:nvSpPr>
          <p:cNvPr id="1128" name="文本框 2"/>
          <p:cNvSpPr/>
          <p:nvPr/>
        </p:nvSpPr>
        <p:spPr>
          <a:xfrm>
            <a:off x="2503440" y="3073320"/>
            <a:ext cx="31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÷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=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分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文本框 3"/>
          <p:cNvSpPr/>
          <p:nvPr/>
        </p:nvSpPr>
        <p:spPr>
          <a:xfrm>
            <a:off x="2503440" y="4083120"/>
            <a:ext cx="25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×9=18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分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文本框 4"/>
          <p:cNvSpPr/>
          <p:nvPr/>
        </p:nvSpPr>
        <p:spPr>
          <a:xfrm>
            <a:off x="1720800" y="4995720"/>
            <a:ext cx="48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答：小白兔拔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个萝卜需要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18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分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6T11:02:33Z</dcterms:created>
  <dc:creator/>
  <dc:description/>
  <dc:language>en-US</dc:language>
  <cp:lastModifiedBy>万润仪器贸易公司</cp:lastModifiedBy>
  <dcterms:modified xsi:type="dcterms:W3CDTF">2020-08-21T01:27:53Z</dcterms:modified>
  <cp:revision>2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